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E76A-D95E-4D36-BFD7-4A524BD1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5C20-2844-4DCF-9DA5-32009EF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F815-195D-4429-A0C9-272454A1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DA8F-1D40-4385-BE1B-16A90275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CE83-1EF1-4831-8A6A-6E111236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466A-0EB7-4A95-9A9F-949B2CB3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2CCD-DA5E-40A4-8F5C-26DB9E63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93A8-26F7-4439-B519-7DBE35A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9C3E-BF50-4DE6-81B7-D0EC308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FFB1-D064-402F-9AFA-2991098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C27F-CFB2-424C-8E82-E604E83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2659-1377-413D-B414-18AEFC43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D15C-0F3A-4386-B759-C098297E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B835-E640-408E-AF0C-688AE1D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301F-053A-47B0-B398-1032672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3263-D178-4DAA-B2A5-84570AB8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E294-5752-490F-A610-C4DB22CF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CF21-F762-4C56-9E11-EE28E13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169C-F54D-4F82-9E32-7B5551E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B2C6-EDD6-4DB6-872C-7209C64D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360F-DEEA-4E06-A97F-D8E97AC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165C-E1B1-42E6-A80F-7751384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E039-3523-46EC-BB45-B09475BF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E617-F02E-4F61-A7F4-3B26D956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B8C3-C68D-4678-AF7D-6DB6DD6F148D}" type="slidenum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EED6-F6BA-48A2-83F7-0E827E2BD58C}" type="slidenum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articiparea" TargetMode="External"/><Relationship Id="rId2" Type="http://schemas.openxmlformats.org/officeDocument/2006/relationships/hyperlink" Target="http://ro.wikipedia.org/wiki/participarea" TargetMode="External"/><Relationship Id="rId3" Type="http://schemas.openxmlformats.org/officeDocument/2006/relationships/hyperlink" Target="http://ro.wikipedia.org/wiki/participarea" TargetMode="External"/><Relationship Id="rId4" Type="http://schemas.openxmlformats.org/officeDocument/2006/relationships/hyperlink" Target="http://ro.wikipedia.org/wiki/participarea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JURNAL DE RAZBOI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0384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20 noiembrie 19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m plecat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preu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cu familia regal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Consiliul de Mini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 spre Iasi. T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untem preocup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. Bucur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ul este sub ocup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a milita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a armatelor Puterilor Centrale ! Moldova este pentru noi acum “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ul f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du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ei” fiind singurul teritoriu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esc liber. Primul ministru Bratianu vorb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 despre reorganizarea noast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H.Berthelot ,generalul trimis de Fra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ne va ajuta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ne reorgani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e mobili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iar regina Maria va organiza Crucea Ros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44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41004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Iulie 191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uterile Centrale au reluat oper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unile militare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doresc cucerirea Moldov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August 191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e aici nu se trece” au spus sold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i n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i , lup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d cu eroism la 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 (11/19 iulie) , 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 (24 iulie 6 august) , Oituz (26 iulie-9 august). Vitejia lor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seam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victoria noast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, a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ilor. Victoria dar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jertfa lor ne-au f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ut pe noi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epem din nou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pe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,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vi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 la refacerea unit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i n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ona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7" descr="C:\Documents and Settings\madalin\Application Data\Microsoft\Media Catalog\mausoleul de la marasesti.jpg"/>
          <p:cNvPicPr/>
          <p:nvPr/>
        </p:nvPicPr>
        <p:blipFill>
          <a:blip r:embed="rId1"/>
          <a:stretch/>
        </p:blipFill>
        <p:spPr>
          <a:xfrm>
            <a:off x="5580000" y="333360"/>
            <a:ext cx="337968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madalin\Application Data\Microsoft\Media Catalog\EcaterinaTeodoroiu.jpg"/>
          <p:cNvPicPr/>
          <p:nvPr/>
        </p:nvPicPr>
        <p:blipFill>
          <a:blip r:embed="rId2"/>
          <a:stretch/>
        </p:blipFill>
        <p:spPr>
          <a:xfrm>
            <a:off x="5580000" y="3716280"/>
            <a:ext cx="33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Octombrie 19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Bucuria a fost de scur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ur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. Vin zvonuri alarmante din est. Bol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vicii au preluat putere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Rusi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anu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ori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de 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cheia un armist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u cu Puterile Centra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per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u fie de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 un zvon alarmant. Altfel……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Martie 19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usia a i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t din razboi. Au semnat la Brest-Litovsk pace cu Puterile Centrale. Oare ce se v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pla cu noi acum ? Ni s-a 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at orice le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u Angli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Fra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. Nu mai putem primi mun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armament.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u mai vorbim de aliment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echipament sanita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conjur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de Puterilie Central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singura noast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le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u Antanta , le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mai u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oa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, s-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erupt od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e Rusia a semnat pace separ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u Puterile Centra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e aud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lexandru Marghiloman poar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egocieri la Buftea cu Puterile Centrale pentru a scoate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din razboi. Spe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u-n rezultat bu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Octombrie 19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edecla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 Puterilor Centrale. Regele nu a ratificat pacea de la Buftea-Bucu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L-am v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ut sup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at. Trebuia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Dobroge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ccep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monopolul economic al Germanie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Austro-Ungariei. Regele nu a accept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403884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Noiembrie 19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Germania a capitulat. Ne-am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tors la Bucure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i. Este lume mul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pe str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zi,flori, bucurie! Sold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i no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rii sunt primi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 cu flori. 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 cum meri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! Acum ne putem vedea visul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plinit. Am luptat pentru el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 urmeaz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-l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plinim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500360" cy="3046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27640" y="3429000"/>
            <a:ext cx="446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17672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18 noiembrie 1918</a:t>
            </a:r>
            <a:r>
              <a:rPr b="1" lang="ro-RO" sz="2000" spc="-1" strike="noStrike" u="sng">
                <a:solidFill>
                  <a:srgbClr val="ffffff"/>
                </a:solidFill>
                <a:uFillTx/>
                <a:latin typeface="Monotype Corsiva"/>
              </a:rPr>
              <a:t> /1 DECEMBR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la Alba Iulia. Actul de voi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l n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unii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e de a locu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-un singur stat se va realiza as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i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s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i este bila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ul luptei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lor pentru unitate , lup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care vine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cununeze precedentele a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uni ale fr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lor din Basarabia , din ziua de 27 martie 1918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Bucovina-15 noiembrie 19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oporul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a luptat , a suportat multe pierderi dar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-a v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ut visul de veacur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plin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ste 18 noiembrie/1 Decembrie 1918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putem spun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ne-am relizat visu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un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, vorbim , g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dim , si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m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ne pur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untem un stat na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onal unitar 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330800" cy="30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1 Decembrie 191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egele 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nut o cuv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are em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onan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d am luat m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nire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emeietorului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iei Moderne , am f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duit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aintea reprezenta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lor N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unii ,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voi fi bun Ro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ed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-a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nut de cuv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. Grele au fost timpurile , mari au fost jertfele , dar st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luci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e 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plat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stazi pot spune cu fruntea sen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:f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de Dumnezeu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f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de poporul meu am co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cur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.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745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rezen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stfel evenimente importante din istoria noastr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,ne aju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le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legem mai bine,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e putem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p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celorla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, ne permite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vi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ehnologia ne aju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prezen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descriem mai bine ori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ecunosc ca poveste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noastr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are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o no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e fic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une( construc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castelului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de la Balcic 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ceput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1925) dar cui nu-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face p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ere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visez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10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Mi-a f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ut p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cere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pot intra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atmosfera Bucure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iului de al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a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,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m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imaginez bat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d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lung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-n lat culoarele castelelor Balcic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Pele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, al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uri de Regin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…..,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creez o atmosfer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de poveste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 jurul ei pentru ca apoi s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pot spune: am fost </a:t>
            </a:r>
            <a:r>
              <a:rPr b="0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 eu aici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bliografie </a:t>
            </a:r>
            <a:r>
              <a:rPr b="0" lang="ro-RO" sz="3200" spc="-1" strike="noStrike">
                <a:solidFill>
                  <a:srgbClr val="ffffff"/>
                </a:solidFill>
                <a:latin typeface="Monotype Corsiva"/>
              </a:rPr>
              <a:t> utilizată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1125360"/>
            <a:ext cx="624672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http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ro.wikipedia.org/wiki/participarea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romaniei la primul razboi mo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:/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www.edusoft.ro/rol/  primul razboi mondial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 marea _unire_din_19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enciclopediaromaniei.ro/ wiki/portal:marea_un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casa _regala _a_roman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castelul_din _balc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ttp://ro.wikipedia.org/wiki/ maria_a_roman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aterial realizat de elevii clasei a VIII-a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unt corespondent al ziarului central , Timpuri Noi si am fost trimis de redactie pentru a realiza un material despre familia de Hohenzoller</a:t>
            </a:r>
            <a:r>
              <a:rPr b="1" lang="ro-RO" sz="3200" spc="-1" strike="noStrike">
                <a:solidFill>
                  <a:srgbClr val="ffffff"/>
                </a:solidFill>
                <a:latin typeface="Monotype Corsiv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-Sigmarigen , familia regal</a:t>
            </a:r>
            <a:r>
              <a:rPr b="1" lang="ro-RO" sz="32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a Rom</a:t>
            </a:r>
            <a:r>
              <a:rPr b="1" lang="ro-RO" sz="32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nie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43876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2 iunie 19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m ajuns la Balcic.Nu este prima data cand o ins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esc pe principesa Maria aici , dar , de fiecare d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esimt acel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fior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d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re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esc de du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deal ochiul albastru al m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Balcicul i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treaz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aceei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tmosfe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olor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misterioa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are o atrage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 fiecare an pe principesa Maria aici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oda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u ea pe mine.As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ea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ri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ul m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nito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Ferdinand I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principesa Maria au invit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.Principesa pre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 o sea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uzical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eorge Enescu ne v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ta cu ultima lui opere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: “Oedip Rege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446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4038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ffffff"/>
                </a:solidFill>
                <a:uFillTx/>
                <a:latin typeface="Monotype Corsiva"/>
              </a:rPr>
              <a:t>5 iunie 19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ste o atmosfe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tension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ici. Principele Ferdinand si principesa Maria sunt tr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i. Au v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i de la Sinaia. Am aflat ca regele Carol I este grav bolnav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ei se tem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u mai poate fii salvat. Principele vorb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e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despre izbucnirea u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ui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azboi pentru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arile Puteri doresc re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pa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rea sferelor de influe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lum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Monotype Corsiva"/>
              </a:rPr>
              <a:t>28 iunie 19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lecam spre Sinaia. Am aflat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Franz Ferdinand , mo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tenitorul coroanei Austro-Ungariei a fost ucis de un student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b. Principele Ferdinand I spun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Austro-Ungaria si Germania vor declara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 Serbie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Eu 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treb ce va face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? Oare regele Carol I de Hohenzolle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n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va ho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especte tratatul cu Puterile Centrale ? Oare vom declara razboi Serbiei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ne vom alatura Germaniei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15560"/>
            <a:ext cx="4038480" cy="601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30680" y="115920"/>
            <a:ext cx="408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03848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21 iulie 1914 , diminea</a:t>
            </a:r>
            <a:r>
              <a:rPr b="1" lang="ro-RO" sz="2000" spc="-1" strike="noStrike" u="sng">
                <a:solidFill>
                  <a:srgbClr val="ffffff"/>
                </a:solidFill>
                <a:uFillTx/>
                <a:latin typeface="Monotype Corsiva"/>
              </a:rPr>
              <a:t>ţ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Monotype Corsiva"/>
              </a:rPr>
              <a:t>a , Sina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a trecu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ustro-Ungari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 Germania au declarat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 Serbiei. Principesa Maria este preocup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e ho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ea Consiliului de Coroa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. Ea spune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trebuie 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-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şi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 declare poz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a…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21 iulie 1914 , seara, Sina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……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sedin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Consiliului de Coroana s-a terminat. 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este neutra 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 acest 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zboi. Cel pu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n deocamdat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. Germania probabil , nu va aprecia pozi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a lui Carol I de Hohenzollern , pe a carui sus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inere miz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Carol I a declarat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Rom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ia este neutr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preciz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nd c</a:t>
            </a:r>
            <a:r>
              <a:rPr b="1" lang="ro-RO" sz="20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000" spc="-1" strike="noStrike">
                <a:solidFill>
                  <a:srgbClr val="ffffff"/>
                </a:solidFill>
                <a:latin typeface="Monotype Corsiva"/>
              </a:rPr>
              <a:t>a invocat clauzele defensive ale tratatului pe care il semnase  cu Puterile Centra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692280"/>
            <a:ext cx="40384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03884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28 septembrie 191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ste doliu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familia Princiar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. Carol I s-a stins din vi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, ieri la Sina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s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zi principele Ferdinand va depune jura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t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 calitate de rege al Ro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ei. Principesa se teme ca nu cumva mo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enitorul regal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u se ridice la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al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mea a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ept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rilor ro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lor.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tie c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Ferdinand este emotiv , dar ea va fi acolo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-l su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n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,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 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ve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 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preuna s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fie buni rom</a:t>
            </a:r>
            <a:r>
              <a:rPr b="1" lang="ro-RO" sz="2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n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16360" y="404640"/>
            <a:ext cx="4254480" cy="6048720"/>
            <a:chOff x="4716360" y="404640"/>
            <a:chExt cx="4254480" cy="60487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716360" y="404640"/>
              <a:ext cx="4254480" cy="60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4716360" y="404640"/>
              <a:ext cx="4254480" cy="604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449568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Monotype Corsiva"/>
              </a:rPr>
              <a:t>Iulie 191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M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plimb pe st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zile Bucure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iului. Peste tot se vorbe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 doar de razboi. Ferdinand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primul ministru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onel B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ianu au facut parte din delega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a care a purtat negocieri cu Antant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Peste tot se vorbe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e despre implicarea Rom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iei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 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zboi a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l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uri de alian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 Antantei. To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spun 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aceasta este singura posibilitate de a n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mplini visul. Trebuie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ne ajutam fra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i din Ardeal , t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buie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fim o Rom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ie Mare 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Monotype Corsiva"/>
              </a:rPr>
              <a:t>4/14 august 1916-Bucures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Regina est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ntat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de semnarea tratatului cu Antanta. Spune 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urmeaz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primim zilnic 300 de tone de armament si muni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e de la puterile Antantei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armata Rusiei trebuie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participe al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uri de armatele noastre la ap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rarea Dobrogei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Consiliul de Coroana a hot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 soarta Romaniei ! Regina Maria este optimist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tie c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Ferdinand va putea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se inving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pe sin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i s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 lupte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mpotriva Germaniei , </a:t>
            </a:r>
            <a:r>
              <a:rPr b="1" lang="ro-RO" sz="18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Monotype Corsiva"/>
              </a:rPr>
              <a:t>ara lui de origin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40384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7640" y="1196640"/>
            <a:ext cx="43988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August 1916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s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t-o pe regina Mari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 mijlocul sold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lor. Am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t alimente , am ajutat l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grijirea 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i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lor. Ea i-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urajat tot timpul. T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o respec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o iubesc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m v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zut 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au apreciat preze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 ei in mijlocul lor , pe fro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ici se man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â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e bea al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uri de mor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, se doarme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î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 mijlocul lor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cu toate astea sold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ţ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i n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 manifes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un mare entuziasm patriot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392360" cy="288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4608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Septembrie 19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Zvonurile pe care le-am auzit s-au adeverit. Dup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ce bravii no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ri ost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au eliberat Bra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ovul , entuziasmul lor a fost diminuat de pierderea b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liei de la Turtucaia de pe frontul de sud. Armata generalului Auguste von Mackensen a reu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t s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parg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rontul din Valea Jiului , a ocupat Dobrogea 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 se indreapt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ă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pre Bucure</a:t>
            </a:r>
            <a:r>
              <a:rPr b="1" lang="ro-RO" sz="2400" spc="-1" strike="noStrike">
                <a:solidFill>
                  <a:srgbClr val="ffffff"/>
                </a:solidFill>
                <a:latin typeface="Monotype Corsiva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C:\Documents and Settings\madalin\Application Data\Microsoft\Media Catalog\oituz_1_l.jpg"/>
          <p:cNvPicPr/>
          <p:nvPr/>
        </p:nvPicPr>
        <p:blipFill>
          <a:blip r:embed="rId1"/>
          <a:stretch/>
        </p:blipFill>
        <p:spPr>
          <a:xfrm>
            <a:off x="4932360" y="26028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madalin\Application Data\Microsoft\Media Catalog\transee_marasesti_l.jpg"/>
          <p:cNvPicPr/>
          <p:nvPr/>
        </p:nvPicPr>
        <p:blipFill>
          <a:blip r:embed="rId2"/>
          <a:stretch/>
        </p:blipFill>
        <p:spPr>
          <a:xfrm>
            <a:off x="4932360" y="3500280"/>
            <a:ext cx="378144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27:42Z</dcterms:created>
  <dc:creator>User</dc:creator>
  <dc:description/>
  <dc:language>en-US</dc:language>
  <cp:lastModifiedBy>User</cp:lastModifiedBy>
  <dcterms:modified xsi:type="dcterms:W3CDTF">2010-11-14T15:21:46Z</dcterms:modified>
  <cp:revision>39</cp:revision>
  <dc:subject/>
  <dc:title>JURNAL DE RAZBOI</dc:title>
</cp:coreProperties>
</file>